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1FD8-7C30-46DD-9A3C-96DF02F9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FAA5-8762-41F5-8AEF-F9CA70A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FC0C-79C5-41C2-A7AA-3839C5EA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755B-090A-421A-BDB2-C4C18C60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A2E-FBDA-4E51-B146-00805B7E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B97C-3A16-481A-80C3-1587975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3C2F-59F9-4DFF-A47E-7A068B20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0CC5-DCBD-4158-BAB9-05CC0B5A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773C-4DCE-4044-B92A-704B7835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270B-8061-4BCE-8C91-28D41286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979E-7652-495B-A254-272251D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19A4-AD97-4ED7-B7B7-9964EF46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BD2-C520-4EF4-82FA-A3E9E37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F8CF-2996-421F-9B0B-F5B1E22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9DF4-F1FC-466E-852D-31551428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3558-7A6C-4266-8A31-AE214B60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B30C-967F-4C4B-8D4C-FF9A9B7E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81FF-986C-47F3-A864-69CC9213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98E4-0AC4-432A-85C4-E7413A3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A2BA-79FC-44BC-9351-71E9575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A668-23AC-415D-9471-FFDB6EBF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6EA9-2507-400F-890D-7DE365D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1FB0-E382-416F-B0F2-60ECE257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439C-1179-403B-A7CE-75F3DC2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F7A-F978-4D08-8F13-3D80DFDFC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218-10F2-438A-AB89-DAAF6E8E2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772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veloping a Plan                     to Transition to Medicare                   Value-Based Purchasing for Physician &amp; Other Professional Services (PVB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4216320"/>
            <a:ext cx="680868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istening Session on Issues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E032-AF27-4592-B91A-42466D523C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5:07Z</dcterms:modified>
  <cp:revision>4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7213038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